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wmf" ContentType="image/x-wmf"/>
  <Override PartName="/ppt/media/LATIGO.WAV" ContentType="audio/x-wav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9693-7F47-4A3A-85C6-83512818558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48E-6DFB-49E3-86BD-7A2A03A9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047-C5FE-4B63-A23F-BF970A71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FCAFC-4C83-43D3-9886-B6E1262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BB1DC-667E-4628-BCCB-866D436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A3803-9A89-43A6-96B5-6972E518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4EA46-37AD-47F7-8FDB-446D892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3F329-730E-4B18-A961-677F2EB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2C781-9FBB-4B22-A12E-4EF8B3FF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6801D-EB2C-4F9E-8E0E-24160E76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4A68A-A0F5-4E3E-87A6-9D685675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99FEA-C68C-40A8-A84D-B958152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54DD5-CDE2-4702-B26A-18551F0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8A6-D5FF-415C-844D-9BDFAF7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EE35C-C5BA-4436-9B65-6022C3B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0B2A3-995A-452D-BBCB-E663203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0B23-2ABC-4A01-869C-A52EE07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C8D45-E880-4EFA-B9EF-FCAB21E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2575-F359-4628-919F-BBC9B7A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8A13-D349-4E72-A7D0-9C9F246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6AB20-37FC-4FF0-89C0-AC0A151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3E727-4FF7-4025-AAAC-334FAAFD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68869-DB22-4932-A5AE-AF88EAE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11538-2637-4FC5-90F6-6E030C6D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FCA-0C88-4E0C-9F11-769D2F35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C633B-C940-4AEB-B5D4-E291BF66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9B749-E0E1-483E-BB55-253163F2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D7FFA-2D2E-4F05-8577-192BFF1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2096-B8FC-4679-889B-80FDD14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0046B-CF55-486B-A83D-192F2E9B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6676-FF7C-43C5-8461-FB2CE411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3BBA9-A6CF-429A-BE72-EE9B3C9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2070-698B-4C25-8F67-3E518B54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AD7B8-AF0B-4615-A22B-F91B6AE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30F4-7A37-4B79-B2BB-F3B1AE1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2E3C-5247-49BE-868E-7D1A85C1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07D8-12C4-4E2F-AF30-76259330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874A-30D9-4DAE-9FC4-9569264A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6FF0F-4309-4812-8A2D-8D207F44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C5A7-9439-42F6-9ED2-39F34668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C2258-E3ED-471F-AE0C-A548B67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3BBA-A09A-4AE2-B0E0-FEF89C91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2E068-F80B-4B24-8A3D-5AA482A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C8ED9-432C-4BCA-B2AA-2D624179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1703-5A16-4C68-89A0-B7ED39E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6DEE1-E6D6-4BD6-BA8B-83648DF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CC4E-C2B1-4A2D-987B-C30EBCE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B8A81-692B-4A5A-B376-2AB1569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360B1-C1A4-43DF-B590-6C8087D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BA8C-A40E-4454-A8A7-3409780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FBDED-EADD-44FC-8FF0-D2B5FCB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DB054-F487-48C3-836A-74DC642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A7BAE-E790-40B3-83E6-D6A0088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D9CD1-A68D-47FA-A18A-A22E946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5FB27-7C88-425D-8F86-C13710C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54929-C6ED-4884-A4AC-0DC0E6E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7B96D-529D-4140-AEE5-E1810EF5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070F-D1BA-4175-A438-BB746FE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BA1C0-C589-40B9-93B9-6148F903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157F9-DE68-4B6B-B392-30A50F2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DE207-B71D-4B1D-873C-5DCE2F6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6087A-6301-4438-ACF3-5194744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E7596-0284-4F86-83C1-FB1D2FD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61555-4225-4DB3-82EA-ACD46855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4E1EC-5399-42A7-8C9B-7A77C7FE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ED74E-67D1-4DA5-887E-AAEB1F10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34CEB-67C3-4B78-A382-468AC8A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671F8-8177-4B01-8BB0-FB715E6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FB1-6760-46F8-925B-D7FA0ADA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6AFC1-37D7-4E94-9505-A3223881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E1A67-43E2-4415-81A3-659A29DA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4C9ED-4817-428D-ABA3-4FB8B5B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891F9-D64E-43B7-8C83-0F77F3A0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3305D-E6DF-40AB-A641-92BEC29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4DC83-CF29-40A7-A15E-1BA5BFB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C3181-D494-41B5-A960-00E92E4C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B350C-FDC4-4135-B76A-E28AF934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31E17-F5E5-4A8F-BA87-B52708C8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91D40-F9E3-4864-8F0A-953083FE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BD00-EC00-44EB-8C3B-F25C2D6E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D274E-1C86-4AFB-9089-4B7C5548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4E195-5537-4783-A340-62FA12CC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2C665-446A-42D0-91AF-27C24D6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77BFB-A5F7-4234-9CB7-9BE01B07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C0F04-EC31-4E37-920E-B68C4440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8C1F6-026D-4103-809E-7B81812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346C9-4181-4D7E-B12E-3C26DB0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1ACB6-5428-4DDC-9CFB-9751D0C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1C998-C1B5-462E-8E08-FABA885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451BD-0335-464D-B866-DEC30FF1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6137-692B-4ACB-83E8-CF7B326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99F63-2647-4226-977F-0EA12869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32146-A354-4698-912C-3D63B605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418CE-2643-4488-91FF-F31DF39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EAA1A-6547-436D-891E-3E3BDD0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E8F7D-8794-4A90-B5EE-2700EE5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F8FEF-7782-4944-99F4-C30F1266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796BF-903C-4EE6-A30E-593063F5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E95FB-C7E0-46C3-B786-1F8EDB8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B1E73-1323-4B26-9097-79C4432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C9BAF-2564-4A7F-825B-E60B91E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EB8C-6ACA-48EB-A3B3-FEBBC0C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17F80-568C-4152-806E-1DF378C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EA679-21CF-4DF4-9F92-47C79C1F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EDC32-7C9F-4FC2-9B23-08EDF0F9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0F173-673E-4421-B1AC-3C664D4B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169C2-C0C1-48A7-907A-BCB3793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352C3-28B0-40F3-BDE8-FA3871C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3F166-BBDD-41BE-A4BE-EB6772B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D2C17-16C3-482E-8BBF-DAD38EF7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8A5D1-2A00-48DE-A80D-0A5C54BE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70E54-4DB9-4085-A410-E7E64B8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933-3060-4B12-B33B-0BF2D8F4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D34-2D28-462B-B8D5-0D32297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98775-E5AF-4792-A485-AAC9EAC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0D36A-B075-45BE-A8EF-1572FCA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0C532-F84A-43DC-A932-D6A10034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A9344-6B03-443F-81D7-B2C8BBEC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24C0C-D2F9-4997-831A-B772F528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218B2-A304-4F06-9619-7A5DD590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636DA-2100-4A5B-9DC0-4D84D1BE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993CB-8C63-4022-9AF7-BC99622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73839-DEB4-4438-8D08-ED8941F7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CF8A2-580D-44AE-824C-E909D161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A457-528A-46CB-A6CB-260DFBA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15602A-872B-4485-AFE9-5F05F5E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E9A0A-0B1E-44A8-A3BA-357F715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89AEE-8BCD-4FB0-B6D0-219ED33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02B65-0566-4237-9D2E-C9C996A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165FF-9829-40BB-A8F4-580D9660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D192E-39FE-45FA-8AFE-F03439E8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74999-D0FF-4A6D-A3D1-3B696801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22FC-555B-479E-AA57-FBF487F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2EF4-D3CF-4A95-9E02-47FED216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1255-36A5-47D4-A338-D5E50872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0B3B-B2B2-4177-8135-54D80770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95A3-6C70-4E36-AE0C-9CAD4DA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88B2-8199-4E68-A93C-B158A73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11DC-4FD8-47E8-B91C-99ECCEE3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7FB6-563B-4F1E-BFD8-9E9C3DE7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66C-6CD4-4939-8DAB-043DC505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E932-CA7A-42FC-822D-FB783C5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59DD-C06D-4F37-8AA7-752F57A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EC17-E3CC-43B5-86F6-044B8D4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E6A0-BC58-4E17-894C-E5CA025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843E-6C26-455D-BD24-A2A32BB4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8AA6-969B-40CA-9482-7AFD0196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890B-7F84-4D15-A18A-F9E159B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B0BC-A233-41B9-9924-41AB6EE7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1175-4561-4892-92CF-C3F735E7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51B5-9FDD-4169-9FB7-26D219E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36F-572B-4522-83F3-890685E5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119B-C256-4D31-A411-089A415C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B5BD-36F0-4C76-A76C-FA34AC76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3AE9-E041-4DE1-8A2F-ADE9168B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3767-1A6D-4DFE-89B6-EA398DC0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1827-2EF0-4FD6-91B3-DCBFD318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0597-03C4-418B-BA09-E8ECB3E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C186-554E-411B-8F93-1F89148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31E5-1417-4DD9-A3DE-F9C02120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1A74-45A4-4F2B-8930-D416D26D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F728-FA4C-436A-9F95-A23C54F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4AD-4D12-4AED-98EE-536DE4B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2C7A1-B27C-4185-9DF1-F8853CD2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51F0-36DE-48D9-92D0-D6FB7F8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D21A-7BD4-4E26-8701-43C700B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3510-C89C-42C1-8DF2-A000048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5497E-896D-4AD8-909B-ECA7A5ED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C768-C4DD-46A3-894F-EB1D4FE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2F44-4CE2-4713-B44C-AE6EA35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DFCE-808A-4115-8D0D-163834B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14B2-5AAC-416E-AEC3-D1279F3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4DE4-6AA6-4198-A0BA-11F99826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DAF-40EF-4E34-84D9-457A7CC5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ABAB-C2AE-4DBD-9249-DE516FD8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61EF-0F58-4E0A-AE87-9BD70CA0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E6C5-CC86-4D01-BDED-E627A07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FBD0-5E75-48C5-9CAC-FD728A8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6564C-7F6C-49C1-AF48-198270D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9877-358B-4CF4-95E5-AE4C808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4734-A134-455B-9C8D-00BEC83B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EE80-5F39-4938-9502-DA85546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0A81-6843-4265-8CE1-BC70999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5989-B587-4554-8884-AD7D4CF8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48B-5BD0-40A0-80AA-88AC6C9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963DD-6AC1-476D-91A2-4DB8C54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B125-BEC0-4CC7-9A42-4E84DF69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4984-D935-42EA-9321-EBF4629E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DA0D-F4C6-4088-93C4-CDB6455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491D-6B19-43B9-9809-B4DE9C6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8C78-C442-459A-B5FC-69CB373A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2E3A-39F5-434C-B43A-052796A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0528-2122-44BE-B2B1-AA7482E0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EA4D-4F85-4088-9AA4-5DACCA3A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6956-E38C-4EDD-95E6-8F588B1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9C3-CE96-4D92-97D7-AD27424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3C24-09B7-4136-B772-97FDFD7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9AC8-1404-4EBD-8F13-205DC1F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D189-5EDB-4961-9758-37E9F4D3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8D8DF-C466-4718-B28F-54F55386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9251-4FC6-4B8B-B2F6-587CDFB7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4736-ED09-4D6C-84E6-32B4C066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8FBB-7B52-4043-BE06-885FAEC3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E5B1-8C0F-40DE-9DF8-8D5091E1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AA5D2-E683-4BDB-8194-916052F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FAEE-0D9D-476A-BB9D-B8D9443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7A4-D1F9-4CB6-926F-B13211E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7E6DF-8BC2-461D-80E6-445781B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EAB1-F802-4209-8143-F23C998B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7D20E-8487-4F74-8FA1-50FA5120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9FF78-8DAE-473A-9319-3639BA0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FD32-2DB0-4B89-9992-225DE95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0A6C2-7FE3-4707-B842-8E108DB1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1E63-751E-4878-A62C-8362BF03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CE65-CAAD-4B9E-B4B0-7795ECE4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95650-8330-4D31-9F3B-19D11F7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422E-D5F1-4E07-A345-B70759A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BD6-CEE4-49E2-BDAA-7A9823F6E1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98D6-2781-4F0B-B9AA-363CB721C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8F5-1F4A-4F38-98BE-544E02767B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AF53-2513-423B-A39D-CC00EAF589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0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82D-A178-45DA-A0DE-17A769E39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A4DC-4DCE-463F-8183-08FED2D14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0AD-3CA1-4BCA-80C4-47E8240BE7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555-034E-4951-915A-8EEDBC514E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530C-7FEE-417D-96C8-EA60599910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2B1-D324-4C0A-ACA5-344AE2970B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BA74-288D-47D2-BC47-AB4BDEABA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E6F0-A213-4BF2-B82F-D1C7F4FD30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37A-6EC2-4AD1-83AE-28248A3750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E13-7DDF-4ABE-983F-A89E928E9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618-71B7-4340-B5A8-0C1A46D9F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515-4F2F-40EB-99F7-10DB857E6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FE82-7797-4DAB-9033-26FACDA7BB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4C1-352E-4D34-952B-E88EBC98EB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w Cen MT"/>
              </a:rPr>
              <a:t>TERMOQUÍMICA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A MAYORÍA DE LOS PROCESOS QUÍMICOS OCURREN A PRESIÓN CONSTANTE, NORMALMENTE LA ATMOSFÉ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P = CT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W =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 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 P ·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           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ENTALPÍ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AutoShape 6"/>
          <p:cNvSpPr/>
          <p:nvPr/>
        </p:nvSpPr>
        <p:spPr>
          <a:xfrm rot="16200000">
            <a:off x="3948840" y="5074200"/>
            <a:ext cx="381240" cy="1439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439640"/>
              <a:gd name="textAreaBottom" fmla="*/ 13960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8"/>
                  <a:pt x="10800" y="2095"/>
                </a:cubicBezTo>
                <a:lnTo>
                  <a:pt x="10800" y="8705"/>
                </a:lnTo>
                <a:cubicBezTo>
                  <a:pt x="10800" y="9753"/>
                  <a:pt x="5400" y="10800"/>
                  <a:pt x="0" y="10800"/>
                </a:cubicBezTo>
                <a:cubicBezTo>
                  <a:pt x="5400" y="10800"/>
                  <a:pt x="10800" y="11848"/>
                  <a:pt x="10800" y="12895"/>
                </a:cubicBezTo>
                <a:lnTo>
                  <a:pt x="10800" y="19505"/>
                </a:lnTo>
                <a:cubicBezTo>
                  <a:pt x="10800" y="205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7"/>
          <p:cNvSpPr/>
          <p:nvPr/>
        </p:nvSpPr>
        <p:spPr>
          <a:xfrm rot="16200000">
            <a:off x="2215080" y="5064840"/>
            <a:ext cx="378000" cy="1455480"/>
          </a:xfrm>
          <a:custGeom>
            <a:avLst/>
            <a:gdLst>
              <a:gd name="textAreaLeft" fmla="*/ 241560 w 378000"/>
              <a:gd name="textAreaRight" fmla="*/ 378360 w 378000"/>
              <a:gd name="textAreaTop" fmla="*/ 43200 h 1455480"/>
              <a:gd name="textAreaBottom" fmla="*/ 1412280 h 14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0"/>
                  <a:pt x="10800" y="2060"/>
                </a:cubicBezTo>
                <a:lnTo>
                  <a:pt x="10800" y="8740"/>
                </a:lnTo>
                <a:cubicBezTo>
                  <a:pt x="10800" y="9770"/>
                  <a:pt x="5400" y="10800"/>
                  <a:pt x="0" y="10800"/>
                </a:cubicBezTo>
                <a:cubicBezTo>
                  <a:pt x="5400" y="10800"/>
                  <a:pt x="10800" y="11830"/>
                  <a:pt x="10800" y="12860"/>
                </a:cubicBezTo>
                <a:lnTo>
                  <a:pt x="10800" y="19540"/>
                </a:lnTo>
                <a:cubicBezTo>
                  <a:pt x="10800" y="20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8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66" dur="1" fill="hold"/>
                                  <p:tgtEl>
                                    <p:spTgt spid="8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67" dur="1" fill="hold"/>
                                  <p:tgtEl>
                                    <p:spTgt spid="8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; 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+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1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ES UNA FUNCIÓN DE ESTADO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14" name="Group 32"/>
          <p:cNvGrpSpPr/>
          <p:nvPr/>
        </p:nvGrpSpPr>
        <p:grpSpPr>
          <a:xfrm>
            <a:off x="5372280" y="1369800"/>
            <a:ext cx="3581280" cy="2210040"/>
            <a:chOff x="5372280" y="1369800"/>
            <a:chExt cx="3581280" cy="2210040"/>
          </a:xfrm>
        </p:grpSpPr>
        <p:sp>
          <p:nvSpPr>
            <p:cNvPr id="815" name="Text Box 15"/>
            <p:cNvSpPr/>
            <p:nvPr/>
          </p:nvSpPr>
          <p:spPr>
            <a:xfrm>
              <a:off x="6058080" y="31226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activ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29"/>
            <p:cNvGrpSpPr/>
            <p:nvPr/>
          </p:nvGrpSpPr>
          <p:grpSpPr>
            <a:xfrm>
              <a:off x="5372280" y="1369800"/>
              <a:ext cx="3581280" cy="2210040"/>
              <a:chOff x="5372280" y="1369800"/>
              <a:chExt cx="3581280" cy="2210040"/>
            </a:xfrm>
          </p:grpSpPr>
          <p:sp>
            <p:nvSpPr>
              <p:cNvPr id="817" name="Line 6"/>
              <p:cNvSpPr/>
              <p:nvPr/>
            </p:nvSpPr>
            <p:spPr>
              <a:xfrm flipV="1">
                <a:off x="5905440" y="1522080"/>
                <a:ext cx="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7"/>
              <p:cNvSpPr/>
              <p:nvPr/>
            </p:nvSpPr>
            <p:spPr>
              <a:xfrm>
                <a:off x="5905440" y="3579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"/>
              <p:cNvSpPr/>
              <p:nvPr/>
            </p:nvSpPr>
            <p:spPr>
              <a:xfrm>
                <a:off x="6134040" y="312264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9"/>
              <p:cNvSpPr/>
              <p:nvPr/>
            </p:nvSpPr>
            <p:spPr>
              <a:xfrm>
                <a:off x="7353360" y="2436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2"/>
              <p:cNvSpPr/>
              <p:nvPr/>
            </p:nvSpPr>
            <p:spPr>
              <a:xfrm rot="16200000">
                <a:off x="4693680" y="204804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16"/>
              <p:cNvSpPr/>
              <p:nvPr/>
            </p:nvSpPr>
            <p:spPr>
              <a:xfrm>
                <a:off x="7201080" y="205596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23"/>
              <p:cNvSpPr/>
              <p:nvPr/>
            </p:nvSpPr>
            <p:spPr>
              <a:xfrm flipV="1">
                <a:off x="6819840" y="2436480"/>
                <a:ext cx="1067040" cy="68580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Text Box 25"/>
              <p:cNvSpPr/>
              <p:nvPr/>
            </p:nvSpPr>
            <p:spPr>
              <a:xfrm>
                <a:off x="7201080" y="289404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g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7"/>
              <p:cNvSpPr/>
              <p:nvPr/>
            </p:nvSpPr>
            <p:spPr>
              <a:xfrm>
                <a:off x="6210360" y="16747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nd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Group 31"/>
          <p:cNvGrpSpPr/>
          <p:nvPr/>
        </p:nvGrpSpPr>
        <p:grpSpPr>
          <a:xfrm>
            <a:off x="5410080" y="3854520"/>
            <a:ext cx="3429000" cy="2133360"/>
            <a:chOff x="5410080" y="3854520"/>
            <a:chExt cx="3429000" cy="2133360"/>
          </a:xfrm>
        </p:grpSpPr>
        <p:sp>
          <p:nvSpPr>
            <p:cNvPr id="827" name="Line 10"/>
            <p:cNvSpPr/>
            <p:nvPr/>
          </p:nvSpPr>
          <p:spPr>
            <a:xfrm flipV="1">
              <a:off x="5867280" y="39301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30"/>
            <p:cNvGrpSpPr/>
            <p:nvPr/>
          </p:nvGrpSpPr>
          <p:grpSpPr>
            <a:xfrm>
              <a:off x="5410080" y="3854520"/>
              <a:ext cx="3429000" cy="2133360"/>
              <a:chOff x="5410080" y="3854520"/>
              <a:chExt cx="3429000" cy="2133360"/>
            </a:xfrm>
          </p:grpSpPr>
          <p:sp>
            <p:nvSpPr>
              <p:cNvPr id="829" name="Line 11"/>
              <p:cNvSpPr/>
              <p:nvPr/>
            </p:nvSpPr>
            <p:spPr>
              <a:xfrm>
                <a:off x="5867280" y="598788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14"/>
              <p:cNvSpPr/>
              <p:nvPr/>
            </p:nvSpPr>
            <p:spPr>
              <a:xfrm rot="16200000">
                <a:off x="4731480" y="46083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6019560" y="41590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eactiv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0"/>
              <p:cNvSpPr/>
              <p:nvPr/>
            </p:nvSpPr>
            <p:spPr>
              <a:xfrm>
                <a:off x="7315200" y="5454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>
                <a:off x="6095880" y="461628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2"/>
              <p:cNvSpPr/>
              <p:nvPr/>
            </p:nvSpPr>
            <p:spPr>
              <a:xfrm>
                <a:off x="7391160" y="53784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>
                <a:off x="6629400" y="4616280"/>
                <a:ext cx="1295280" cy="76212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6"/>
              <p:cNvSpPr/>
              <p:nvPr/>
            </p:nvSpPr>
            <p:spPr>
              <a:xfrm>
                <a:off x="7391160" y="44640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l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28"/>
              <p:cNvSpPr/>
              <p:nvPr/>
            </p:nvSpPr>
            <p:spPr>
              <a:xfrm>
                <a:off x="6476760" y="38545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x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Rectangle 33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GASES)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2133360"/>
            <a:ext cx="77724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 algn="ctr">
              <a:lnSpc>
                <a:spcPct val="120000"/>
              </a:lnSpc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P ·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V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APLICANDO LA ECUACIÓN DE LOS GASES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P · V =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Y SI P Y T SON CONSTANTES LA ECUACIÓN SE CUMPLIRÁ PARA LOS ESTADOS INICIAL Y FINAL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V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N · R · 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SÓLIDOS Y LÍQUIDO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DE SÓLIDOS Y LÍQUIDOS APENAS SE PRODUCE VARIACIÓN DE VOLUMEN Y 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V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ES DECI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U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2fa3ee"/>
                </a:solidFill>
                <a:uFillTx/>
                <a:latin typeface="Tw Cen MT"/>
              </a:rPr>
              <a:t>EJERCICIO A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EN TERMOQUÍMICA EL VALOR DE R SUELE TOMARSE EN UNIDADES DEL SISTEMA INTERNACIONAL. YA SABES QUE R = 0,082 ATM·L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. DETERMINA EL VALOR DE  R EN EL S.I CON SUS UNIDAD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 = D G 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 ATM = 13546 KG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3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9,8 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0,76 M =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0900 K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0" y="414972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TERMINAR LA VARIACIÓN DE ENERGÍA INTERNA PARA EL PROCESO DE COMBUSTIÓN DE 1 MOL DE PROPANO A 25ºC Y 1 ATM, SI LA VARIACIÓN DE ENTALPÍA, EN ESTAS CONDICIONES, VALE – 2219,8 KJ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5 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4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 (L)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= –2219,8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1+5 = 6 ;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3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= –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DESPEJANDO EN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U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· R · T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219 KJ + 3 MOL · (8,3 J/MOL.K) · 298 K = –22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U</a:t>
            </a: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 =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212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Rectangle 1028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4" dur="500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02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w Cen MT"/>
              </a:rPr>
              <a:t>ENTALPÍA ESTÁNDAR DE LA REAC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9640" y="170028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E EXPRESA COMO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83319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683319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Y COMO SE MIDE EN J O KJ DEPENDE DE CÓMO SE AJUSTE LA  REACCIÓN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ASÍ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DE LA REACCIÓN “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 ES EL DOBLE DEL DE “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½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RODUCTOS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1028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PRESAN TANTO LOS REACTIVOS COMO LOS PRODUCTOS INDICANDO ENTRE PARÉNTESIS SU ESTADO FÍSICO, Y A CONTINUACIÓN LA VARIACIÓN ENERGÉTICA EXPRESAD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(HABITUALMENTE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890 KJ</a:t>
            </a:r>
            <a:br>
              <a:rPr sz="24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G);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w Cen MT"/>
              </a:rPr>
              <a:t>¡CUIDADO!:</a:t>
            </a:r>
            <a:r>
              <a:rPr b="0" lang="es-ES_tradnl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DEPENDE DEL NÚMERO DE MOLES QUE SE FORMAN O PRODUCEN. POR TANTO, SI SE AJUSTA PONIENDO COEFICIENTES DOBLES, HABRÁ QUE MULTIPLIC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POR 2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2· (–241’4 KJ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 FRECUENCIA, SUELEN USARSE COEFICIENTES FRACCIONARIOS PARA AJUSTAR LAS ECUACION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TALPÍA ESTÁNDAR DE FORMACIÓN (CALOR DE FORMACIÓN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EL INCREMENTO ENTÁLPICO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) QUE SE PRODUCE EN LA REACCIÓN DE FORMACIÓN DE </a:t>
            </a:r>
            <a:r>
              <a:rPr b="1" lang="es-ES_tradnl" sz="2000" spc="-1" strike="noStrike" u="sng">
                <a:solidFill>
                  <a:srgbClr val="af7823"/>
                </a:solidFill>
                <a:uFillTx/>
                <a:latin typeface="Tw Cen MT"/>
              </a:rPr>
              <a:t>UN MOL</a:t>
            </a:r>
            <a:r>
              <a:rPr b="0" lang="es-ES_tradnl" sz="2000" spc="-1" strike="noStrike">
                <a:solidFill>
                  <a:srgbClr val="af7823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DE UN DETERMINADO COMPUESTO A PARTIR DE LOS ELEMENTOS EN ESTADO FÍSICO NORMAL (EN CONDICIONES ESTÁNDAR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EXPRES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 TRATA DE UN “CALOR MOLAR”, ES DECIR, EL COCIENTE ENT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EL NÚMERO DE MOLES FORMADOS DE PRODUCT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POR TANTO, SE MIDE EN KJ/MO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(S) +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393’13 KJ/MO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285’8 KJ/M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1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533520" y="914400"/>
            <a:ext cx="727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, ESTADOS Y FUNCIONES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IM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INTERNA Y ENTALPÍA. REACCIONES A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 Y A PRESIÓN CONSTANT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LACIÓN ENTRE AMB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CUACIONES TERMOQUÍMIC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FORMACIÓN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6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S ENTALPÍAS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7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EY DE H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CALOR DE REACCIÓN)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PLICANDO LA LEY DE HESS PODEMOS CONCLUIR QUE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CUERD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TODOS LOS ELEMENTOS EN ESTADO ORIGINAL ES 0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5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A REACCIÓN DE COMBUSTIÓN DEL BUTANO E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PRODUCT.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REACTIVOS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4 MOL(– 393’5 KJ/MOL) + 5 MOL(– 285’8 KJ/MOL)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1 MOL(– 124’7 KJ/MOL) = – 2878’3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LA ENTALPÍA ESTÁNDAR DE COMBUSTIÓN SERÁ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USTIÓN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878’3 KJ/M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H EN UNA REACCIÓN QUÍMICA ES CONSTANTE CON INDEPENDENCIA DE QUE LA REACCIÓN SE PRODUZCA EN UNA O MÁS ETAPA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RECUERDA QUE H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OR TANTO, SI UNA ECUACIÓN QUÍMICA SE PUEDE EXPRESAR COMO COMBINACIÓN LINEAL DE OTRAS, PODREMOS IGUALMENT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LA REACCIÓN GLOBAL COMBINANDO L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CADA UNA DE LAS REACCION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Comment 4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980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ADAS LAS REACCIONES</a:t>
            </a:r>
            <a:br>
              <a:rPr sz="2500"/>
            </a:b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1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41’8 KJ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 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R LA ENTALPÍA DE VAPORIZACIÓN DEL AGUA EN CONDICIONES ESTÁNDAR.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61760" y="263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VAPORIZACIÓN ES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(2), LUEG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41’8 KJ – (–285’8 KJ) = 44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VAPORIZACIÓN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44 KJ /M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Rectangle 1028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QUEMA DE LA 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Line 4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7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4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41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0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85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1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s-ES_tradnl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3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4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5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B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I UTILIZAMOS LA LEY DE HESS, LA REACCIÓN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4)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UEDE OBTENERSE A PARTIR 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1)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2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(S) +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393’5 KJ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3)  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124’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= 4 · (2) + 5 · 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(S) + 4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5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/2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+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4 MOL(–393’5 KJ/MOL) + 5 MOL(–285’8 KJ/MOL) –1 MOL(– 124’7 KJ/MOL) =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2878’3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8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898" name="Line 5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6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7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7080" y="720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1" lang="es-ES_tradnl" sz="29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TIR DE LOS CALORES DE REACCIÓN DE LAS SIGUIENTES REACCIONES QUÍMICAS: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1) 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 C(S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393’13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3)  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3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1422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55280" y="393336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ORMACIÓN DEL ETENO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A PARTIR DE SUS CONSTITUYENTES EN ESTADO NORMAL E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SE PUEDE EXPRESAR COMO 2·(2) + 2·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PARTIR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 LOS CALORES DE REACCIÓN DE LAS SIGUIENTES REACCIONES QUÍMICA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1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1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285’8 KJ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2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(S) +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393’13 KJ</a:t>
            </a:r>
            <a:br>
              <a:rPr sz="2400"/>
            </a:b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3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4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3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2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2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1422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 = 2·(2) + 2·(1) – (3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+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2 · (–393’13 KJ) + 2 · (– 285’8 KJ) – (– 1422 KJ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64’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S DECIR   </a:t>
            </a: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1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 (ETENO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64’14 KJ/MOL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 TRATA, PUES, DE UNA REACCIÓN ENDOTÉRM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2fa3ee"/>
                </a:solidFill>
                <a:uFillTx/>
                <a:latin typeface="Tw Cen MT"/>
              </a:rPr>
              <a:t>EJERCICIO D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LAS ENTALPÍAS DE COMBUSTIÓN DE LA GLUCOSA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  Y DEL ETANOL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H) SON –2815 KJ/MOL Y –1372 KJ/MOL, RESPECTIVAMENTE. CON ESTOS DATOS DETERMINA LA ENERGÍA INTERCAMBIADA EN LA FERMENTA– CIÓN DE UN MOL DE GLUCOSA, REACCIÓN EN LA QUE SE PRODUCE ETANOL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. ¿ES EXOTÉRMICA LA REACCIÓN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0880" y="2205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REACCIONES DE COMBUSTIÓN SON, RESPECTIVAMENT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1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6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6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6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2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 3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3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1372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ERMENTACIÓN DE LA GLUCOSA ES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2· (2), LUEG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·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 – 2· (– 1372 KJ) =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71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LA REACCIÓN 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EXOTÉRM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DE ENLAC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“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S LA ENERGÍA NECESARIA PARA ROMPER UN ENLACE DE UN MOL DE SUSTANCIA EN ESTADO GASEOSO</a:t>
            </a: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EL CASO DE MOLÉCULAS DIATÓMICAS ES IGUAL QUE LA ENERGÍA DE DISOCIACIÓ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—B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A(G) + B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DI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LAC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H(G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= 436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POSITIVA (ES NECESARIO APORTAR ENERGÍA AL SISTEM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DIFÍCIL DE MEDI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SUELE CALCULAR APLICANDO LA LEY DE H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39280" y="990720"/>
            <a:ext cx="7566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O ENTALPÍA DE ENLACE DE ENLACE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1.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 ENERGÍA DE REACCIÓN A PARTIR DE ENTALPÍAS DE ENLACE APLICANDO LA LEY DE H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ROPÍ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1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SEGUNDO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2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RC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0.-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LIBRE DE GIBB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1.-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INFLUENCIA DE LA TEMPERATU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R LA ENERGÍA DEL ENLACE H—CL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EN EL CLORURO DE HIDRÓGENO CONOCIENDO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HCL) CUYO VALOR ES –92,3 KJ/MOL Y LAS ENTALPÍAS DE DISOCIACIÓN DEL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Y DEL CL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QUE SON 436,0 KJ/MOL Y 243,4 KJ/MOL, RESPECTIVAMENTE.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LA REACCIÓN DE DISOCIACIÓN DEL HCL SERÁ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HCL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(G) + 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1) ½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+ ½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CL(G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92,3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H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43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3) 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243,4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= –(1) +  ½(2) +  ½(3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(– 92,3 KJ ) + ½(436,0 KJ) +  ½(243,4 KJ) == 432,0 KJ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(HCL)  =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 432,0 KJ/MO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A PARTIR DE LA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ENERGÍA DE ENLAC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(DISOCIACIÓN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2736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PLICANDO LA LEY DE HESS EN CUALQUIER CASO SE OBTIENE LA SIGUIENTE FÓRMUL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ROTOS)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FORMAD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DONDE NI  REPRESENTA EL NÚMERO DE ENLACES ROTOS Y FORMADOS DE CADA TIP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mment 5"/>
          <p:cNvSpPr/>
          <p:nvPr/>
        </p:nvSpPr>
        <p:spPr>
          <a:xfrm rot="2091600">
            <a:off x="7057440" y="139608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8908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611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347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413 Y H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436, CALCULAR EL VALOR 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DE LA REACCIÓN DE HIDROGENACIÓN DEL ETE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57200" y="227628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REACCIÓN: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ROTOS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FORMADOS)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=C) + 1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H–H) –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C) – 2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H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 MOL · 611 KJ/MOL + 1MOL · 436 KJ/MOL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(1 MOL · 347 KJ/MOL + 2 MOL · 413 KJ/MOL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126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ff9900"/>
                </a:solidFill>
                <a:uFillTx/>
                <a:latin typeface="Tw Cen MT"/>
              </a:rPr>
              <a:t>EJERCICIO E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 EL CALOR DE COMBUSTIÓN DE PROPANO 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A PARTIR DE LOS DATOS DE ENERGÍA DE ENLACE DE LA TABLA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55160" y="177300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+ 5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+ 4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ROTOS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8 C–H, 2 C–C Y 5 O=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FORMADO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6 C=O Y 8 O–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ROTOS) –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FORM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H) + 2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C) +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5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=O) – [6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=O) +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–H)]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·413 KJ + 2·347 KJ +5·499 KJ – (6·745 KJ + 8·460 KJ) = –165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) = </a:t>
            </a:r>
            <a:r>
              <a:rPr b="1" lang="es-ES_tradnl" sz="1800" spc="-1" strike="noStrike">
                <a:solidFill>
                  <a:srgbClr val="355071"/>
                </a:solidFill>
                <a:latin typeface="Tw Cen MT"/>
              </a:rPr>
              <a:t>–1657 KJ/M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6477120" y="361800"/>
          <a:ext cx="2666880" cy="475488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24" name="Rectangle 651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NTROPÍA (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755280" y="1773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UNA MEDIDA DEL DESORDEN DEL SISTEMA QUE SÍ PUEDE MEDIRSE Y TABULAR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IN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NICI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ISTEN TABLAS DE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(ENTROPÍA MOLAR ESTÁNDAR) DE DIFERENTES SUSTANCIA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UNA REACCIÓN QUÍMIC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ES UNA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8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3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8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3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3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A LAS SIGUIENTES REACCIONES QUÍMICAS: </a:t>
            </a: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O(G); </a:t>
            </a: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3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. </a:t>
            </a:r>
            <a:br>
              <a:rPr sz="2500"/>
            </a:b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w Cen MT"/>
              </a:rPr>
              <a:t>DATOS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J·MOL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: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30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;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91,5; NO(G) = 210,7;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192,3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 MOL · 210,7 J 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191,5 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 20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24,9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·192,3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3 MOL ·130,6 J· 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191,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–198,7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7029360" y="477036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SEGUNDO PRINCIPIO DE LA TERMODINÁMICA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UALQUIER PROCESO ESPONTÁNEO LA ENTROPÍA TOTAL DEL UNIVERSO TIENDE A AUMENTAR SIEMPRE”.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 VECES EL SISTEMA PIERDE ENTROPÍA (SE ORDENA) ESPONTÁNEAMENTE. EN DICHOS CASOS EL ENTORNO SE DESORD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9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4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9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TERC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DE CUALQUIER SUSTANCIA A 0 K ES IGUAL A 0” (MÁXIMO ORDEN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QUIVALE A DECIR QUE NO SE PUEDE BAJAR DE DICHA TEMPERATUR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w Cen MT"/>
              </a:rPr>
              <a:t>¡CUIDADO!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S DE LOS ELEMENTOS EN CONDICIONES ESTÁNDAR NO SON 0 SINO QUE ES POSITIV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OCESOS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Y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TEMPERATURA CONSTANTE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PUED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DE UN SISTEMA COMO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—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SI EL PROCESO QUÍMICO SE PRODUCE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ES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 ——— 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————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        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TROPÍA MOLAR ESTÁNDAR)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J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CIÓ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DE GIBBS (G)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(ENERGÍA LIBRE O ENTALPÍA LIBRE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5360" y="2387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A T CONSTANTE SE DEFINE COM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H – T · 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: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– T·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&gt; 0 (P. ESPONTÁNE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ULTIPLICANDO POR “–T” Y COMO “–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ESPONTÁNEOS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&gt; 0   LA REACCIÓN NO ES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0 EL SISTEMA ESTÁ EN EQUILIBR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4912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ARTE PEQUEÑA DEL UNIVERSO QUE SE AÍSLA PARA SOMETER A ESTUDI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L RESTO SE DENOMINA </a:t>
            </a: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ENTOR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UEDEN SE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BIERTOS (INTERCAMBIA MATERIA Y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ERRADOS (NO INTERCAMBIA MATERIA Y SÍ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ISLADOS (NO INTERCAMBIA NI MATERIA NI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QUÍMICAS..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 = SUSTANCIAS QUÍMIC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1" dur="1" fill="hold"/>
                                  <p:tgtEl>
                                    <p:spTgt spid="7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INCREMENTO DE ENERGÍA LIBRE DE UNA REACCIÓN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G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74640" y="2421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 ES UNA FUNCIÓN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L IGUAL QUE EL INCREMENTO ENTÁLPICO EL INCREMENTO DE ENERGÍA LIBRE DE UNA REACCIÓN PUEDE OBTENERSE A PARTIR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REACTIVOS Y PRODUCT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Rectangle 1028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Y 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DE LAS REACCIONES 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REAC.  NO ESPONTÁNE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7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9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3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g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9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0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1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3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l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Reac.   espontán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1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 LAS REACCIONES QUÍMICA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NO SIEMPRE LAS REACCIONES EXOTÉRMICAS SON ESPONTÁNEA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HAY REACCIONES ENDOTÉRMICAS ESPONTÁNEA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VAPORACIÓN DE LÍQUIDO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DISOLUCIÓN DE SALES..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EJEMPLOS DE REACCIONES ENDOTÉRMICAS ESPONTÁNEA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L(S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AQ) + CL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(AQ)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4’7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44’0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1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9" dur="500"/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7" dur="500"/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UNA REACCIÓN ES ESPONTÁNEA CU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 – T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)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ES NEGATIV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GÚN SEAN POSITIVOS O NEGATIVOS LOS VALORES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SIEMPRE ES POSITIVA) SE CUMPLIRÁ QUE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ESPONTÁNE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NO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BAJ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AL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ALTA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BAJ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49440" y="35568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Line 4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alt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odas las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0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baj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No Espontánea  a  cualquier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Comment 19"/>
          <p:cNvSpPr/>
          <p:nvPr/>
        </p:nvSpPr>
        <p:spPr>
          <a:xfrm rot="2091600">
            <a:off x="6982920" y="52452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¿SERÁ O NO ESPONTÁNEA LA SIGUIENTE REACCIÓN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</a:t>
            </a:r>
            <a:r>
              <a:rPr b="0" lang="es-ES_tradnl" sz="29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 + 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? DATOS: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KJ/MOL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285,8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187,8 ; 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J·MOL 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·1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69,9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109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,0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REACTIVOS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–285,8 KJ/MOL) – 2 MOL(–187,8 KJ/MOL)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–19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69,9 J/MOL·K) + 1 MOL(205, J/MOL·K)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2MOL(109,6 J/MOL·K) = 126,0 J / K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0,126 KJ / 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T ·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–196,0 KJ – 298 K · 0,126 KJ/ K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2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G</a:t>
            </a:r>
            <a:r>
              <a:rPr b="1" lang="es-ES_tradnl" sz="22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= – 233,5 KJ   LUEGO SERÁ ESPONTÁN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DEFINICIÓN DE TERMOQUÍMICA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206064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LA PARTE DE LA QUÍMICA QUE SE ENCARGA DEL ESTUDIO DEL INTERCAMBIO ENERGÉTICO DE UN SISTEMA QUÍMICO CON EL EXTERIO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AY SISTEMAS QUÍMICOS QUE EVOLUCIONAN DE REACTIVOS A PRODUCTOS DESPRENDIE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X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TROS SISTEMAS QUÍMICOS EVOLUCIONAN DE REACTIVOS A PRODUCTOS PRECISA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ND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VARIABLES DE ESTADO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MAGNITUDES QUE PUEDEN VARIAR A LO LARGO DE UN PROCESO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(POR EJEMPLO, EN EL TRANSCURSO DE UNA REACCIÓN QUÍMICA)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83319"/>
                </a:solidFill>
                <a:uFillTx/>
                <a:latin typeface="Tw Cen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TEMPERATUR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CENTRACIÓ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5" dur="1" fill="hold"/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6" dur="1" fill="hold"/>
                                  <p:tgtEl>
                                    <p:spTgt spid="7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7" dur="1" fill="hold"/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8" dur="1" fill="hold"/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FUNCIONES DE ESTAD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IENEN U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VALOR ÚNIC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PARA CADA ESTADO DEL SISTE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U VARIACIÓN SOLO DEPEN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DEL ESTADO INICIAL Y FINAL Y NO DEL CAMINO DESARROLLAD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SÍ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PRESIÓN, TEMPERATURA, ENERGÍA INTERNA, ENTALPÍ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NO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CALOR, TRABAJ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0" dur="20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7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83319"/>
                </a:solidFill>
                <a:latin typeface="Tw Cen MT"/>
              </a:rPr>
              <a:t>PRIM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3600" y="23018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NERGÍA INTERNA (U)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ES LA ENERGÍA TOTAL 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DEL SISTEMA.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ES IMPOSIBLE MEDI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SU VARIACIÓN SÍ SE MID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                </a:t>
            </a:r>
            <a:r>
              <a:rPr b="1" lang="es-ES_tradnl" sz="20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= Q + 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Q Y W &gt; 0 SI SE REALIZAN A FAVOR DEL SISTE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4" name="Group 17"/>
          <p:cNvGrpSpPr/>
          <p:nvPr/>
        </p:nvGrpSpPr>
        <p:grpSpPr>
          <a:xfrm>
            <a:off x="4295880" y="2362320"/>
            <a:ext cx="4848120" cy="2005560"/>
            <a:chOff x="4295880" y="2362320"/>
            <a:chExt cx="4848120" cy="2005560"/>
          </a:xfrm>
        </p:grpSpPr>
        <p:sp>
          <p:nvSpPr>
            <p:cNvPr id="795" name="Rectangle 4"/>
            <p:cNvSpPr/>
            <p:nvPr/>
          </p:nvSpPr>
          <p:spPr>
            <a:xfrm>
              <a:off x="5638680" y="2362320"/>
              <a:ext cx="2286000" cy="1981080"/>
            </a:xfrm>
            <a:prstGeom prst="rect">
              <a:avLst/>
            </a:prstGeom>
            <a:solidFill>
              <a:srgbClr val="f0d7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>
              <a:off x="457200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7"/>
            <p:cNvSpPr/>
            <p:nvPr/>
          </p:nvSpPr>
          <p:spPr>
            <a:xfrm>
              <a:off x="723888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9"/>
            <p:cNvSpPr/>
            <p:nvPr/>
          </p:nvSpPr>
          <p:spPr>
            <a:xfrm flipH="1">
              <a:off x="4647960" y="3886200"/>
              <a:ext cx="152388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0"/>
            <p:cNvSpPr/>
            <p:nvPr/>
          </p:nvSpPr>
          <p:spPr>
            <a:xfrm flipH="1">
              <a:off x="7238520" y="388620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WordArt 11"/>
            <p:cNvSpPr txBox="1"/>
            <p:nvPr/>
          </p:nvSpPr>
          <p:spPr>
            <a:xfrm>
              <a:off x="5715000" y="3200400"/>
              <a:ext cx="20667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83319"/>
                  </a:solidFill>
                  <a:latin typeface="Arial Black"/>
                </a:rPr>
                <a:t>SISTEMA</a:t>
              </a:r>
              <a:endParaRPr b="1" lang="en-US" sz="2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331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Text Box 12"/>
            <p:cNvSpPr/>
            <p:nvPr/>
          </p:nvSpPr>
          <p:spPr>
            <a:xfrm>
              <a:off x="4295880" y="245268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4"/>
            <p:cNvSpPr/>
            <p:nvPr/>
          </p:nvSpPr>
          <p:spPr>
            <a:xfrm>
              <a:off x="7772400" y="2514600"/>
              <a:ext cx="1143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l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15"/>
            <p:cNvSpPr/>
            <p:nvPr/>
          </p:nvSpPr>
          <p:spPr>
            <a:xfrm>
              <a:off x="4324320" y="345924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lt;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7696080" y="350532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6" dur="20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7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0560" y="619200"/>
            <a:ext cx="87138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76000" y="2565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ES EL INTERCAMBIO DE ENERGÍA EN UN RECIPIENTE CERRADO QUE NO CAMBIA DE VOLUME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V= CONSTANTE, ES DECIR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 = 0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W = 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V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cp:keywords/>
  <dc:language>en-US</dc:language>
  <cp:lastModifiedBy>LIDIA MARTIN RONCO</cp:lastModifiedBy>
  <cp:lastPrinted>1998-10-08T09:53:56Z</cp:lastPrinted>
  <dcterms:modified xsi:type="dcterms:W3CDTF">2016-09-30T15:20:48Z</dcterms:modified>
  <cp:revision>115</cp:revision>
  <dc:subject/>
  <dc:title>TERMOQUÍMICA</dc:title>
</cp:coreProperties>
</file>